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A17-11B1-46B0-981C-F4EC8045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B52-5BCD-4156-8FE6-C920D70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3A4-FDC1-448F-9321-1097DA42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030-1434-4914-BF3B-C0D53699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9672-DAA9-4710-A9FF-B21B492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385-7206-46AC-BCDF-5F1D67D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02E-315D-4F1E-A57A-D76AD51C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821-6714-4575-8666-BF9EA13B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FAE-4163-485D-A0A3-AC2A779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153-F630-49FC-8BE9-237338E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197C-DC56-42AB-8813-64D9511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C2E-6EBC-4D28-AA09-2469FDC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CE72-1ED3-4759-A66F-2633C0B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12FF-CCB7-42BF-8192-632C777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9FE-A701-4564-B285-FF094DD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8A82-33F1-4EA7-9F86-B4B35B6B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DB1-C897-4F31-A461-D8FBA92B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FA2-5AFC-4068-AC49-EB8AF7A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8FE-79A3-497F-9FB6-D2D3274E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D00-F969-4E25-B0AB-1209D9D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58F-E952-4DB2-8F3A-EC911DF3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B73-0747-423A-8EBC-EA1B462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CF5-9570-4C44-8F44-7ACE5DC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929-7E79-4AD3-9CF5-31C84CB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AD2-CDE9-4017-8B4D-1056EA723D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D6AF-9C7D-4440-85A1-3CF41CBDC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2aa"/>
            </a:gs>
            <a:gs pos="50000">
              <a:srgbClr val="eaeaea"/>
            </a:gs>
            <a:gs pos="100000">
              <a:srgbClr val="d2e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029"/>
          <p:cNvSpPr txBox="1"/>
          <p:nvPr/>
        </p:nvSpPr>
        <p:spPr>
          <a:xfrm>
            <a:off x="539640" y="1052640"/>
            <a:ext cx="7775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ТЕОРЕМА ВИЕТА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2049" descr="j0178207"/>
          <p:cNvPicPr/>
          <p:nvPr/>
        </p:nvPicPr>
        <p:blipFill>
          <a:blip r:embed="rId1"/>
          <a:stretch/>
        </p:blipFill>
        <p:spPr>
          <a:xfrm rot="19728000">
            <a:off x="468000" y="62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0" descr="j0178208"/>
          <p:cNvPicPr/>
          <p:nvPr/>
        </p:nvPicPr>
        <p:blipFill>
          <a:blip r:embed="rId2"/>
          <a:stretch/>
        </p:blipFill>
        <p:spPr>
          <a:xfrm rot="19224000">
            <a:off x="7552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51" descr="j0178209"/>
          <p:cNvPicPr/>
          <p:nvPr/>
        </p:nvPicPr>
        <p:blipFill>
          <a:blip r:embed="rId3"/>
          <a:stretch/>
        </p:blipFill>
        <p:spPr>
          <a:xfrm rot="2316600">
            <a:off x="788472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52" descr="j0178210"/>
          <p:cNvPicPr/>
          <p:nvPr/>
        </p:nvPicPr>
        <p:blipFill>
          <a:blip r:embed="rId4"/>
          <a:stretch/>
        </p:blipFill>
        <p:spPr>
          <a:xfrm rot="2572200">
            <a:off x="7092720" y="259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53" descr="j0178230"/>
          <p:cNvPicPr/>
          <p:nvPr/>
        </p:nvPicPr>
        <p:blipFill>
          <a:blip r:embed="rId5"/>
          <a:stretch/>
        </p:blipFill>
        <p:spPr>
          <a:xfrm rot="20122200">
            <a:off x="3419280" y="494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j0178231"/>
          <p:cNvPicPr/>
          <p:nvPr/>
        </p:nvPicPr>
        <p:blipFill>
          <a:blip r:embed="rId6"/>
          <a:stretch/>
        </p:blipFill>
        <p:spPr>
          <a:xfrm rot="1520400">
            <a:off x="5435280" y="3933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492280"/>
            <a:ext cx="756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появилась теорема Ви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доказать теор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чему теорема актуальна и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работает теорема Пифагора в математических задач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торические условия возникновения теоремы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и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15320" y="170028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33640" y="2351160"/>
            <a:ext cx="7162560" cy="247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209000" y="19080"/>
            <a:ext cx="1915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1400" y="203040"/>
            <a:ext cx="8912160" cy="1684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9320" y="2216160"/>
            <a:ext cx="88614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историческими условия возникновения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различные способы доказательства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43080" y="2271600"/>
            <a:ext cx="854676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древни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основные виды современных геометрических задач, решаемых при помощи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994440" y="0"/>
            <a:ext cx="2129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20" y="519120"/>
            <a:ext cx="892188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63600" y="3284640"/>
            <a:ext cx="7962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современны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знает как используется теорема в современном ми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00000" y="2708280"/>
            <a:ext cx="7336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суа Виет – отец алгебр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Viete_2"/>
          <p:cNvPicPr/>
          <p:nvPr/>
        </p:nvPicPr>
        <p:blipFill>
          <a:blip r:embed="rId1"/>
          <a:stretch/>
        </p:blipFill>
        <p:spPr>
          <a:xfrm>
            <a:off x="179280" y="404640"/>
            <a:ext cx="4410360" cy="6191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4643280" y="0"/>
            <a:ext cx="37450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Франсуа Виет (1540 – 16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 праву достойна в стихах быть восп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о свойствах корней теорема Вие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(А.Гур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14:09Z</dcterms:created>
  <dc:creator>User</dc:creator>
  <dc:description/>
  <dc:language>en-US</dc:language>
  <cp:lastModifiedBy>ILYA</cp:lastModifiedBy>
  <dcterms:modified xsi:type="dcterms:W3CDTF">2010-05-28T04:30:44Z</dcterms:modified>
  <cp:revision>54</cp:revision>
  <dc:subject/>
  <dc:title>Слайд 1</dc:title>
</cp:coreProperties>
</file>